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0434-8734-4C8F-99BA-772E61357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37AC-85F1-48F0-A20B-3B229D485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B79E-57CE-4AB5-9332-2BAAD21D2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86A6-61DE-4DFE-AF9F-07C3B456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18E0-74F2-4AA5-AE38-0D93CFA05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9429-D292-43DD-8E75-04026412B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5255-ABA3-45D1-A487-9713113D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8934-EA8D-4867-83D0-543DEC10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49BA-02EB-4AE8-9331-88301F64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81ED-A5FF-4B83-93EC-7F311125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7F44-CC00-42E9-8AB4-4440F5D7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63F2-D0F3-4799-9451-C9FE72AF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B3D0-CDC4-41BB-ABFF-88D18921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1128-5EEF-4540-ABA9-175DE843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2F47-0337-40A6-9DD2-425435B3ACF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УНИВЕРЗИТЕТ У КРАГУЈЕВЦУ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br>
              <a:rPr sz="1800"/>
            </a:br>
            <a:r>
              <a:rPr b="1" lang="sr-C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ФАКУЛТЕТ МЕДИЦИНСКИХ НАУКА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3619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ремећаји располож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ф. др Горан Михајлови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69056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914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900" spc="-1" strike="noStrike">
                <a:solidFill>
                  <a:srgbClr val="000000"/>
                </a:solidFill>
                <a:latin typeface="Calibri"/>
              </a:rPr>
              <a:t>ЕТИПОПАТОГЕНЕЗА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143000" y="2438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Calibri"/>
              </a:rPr>
              <a:t>Неуробиолошке студије обухватају четири главна по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љ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Arial"/>
              </a:rPr>
              <a:t>а истражива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r>
              <a:rPr b="0" lang="sr-CS" sz="17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071720" y="1905120"/>
            <a:ext cx="3957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f497d"/>
                </a:solidFill>
                <a:latin typeface="Times New Roman"/>
              </a:rPr>
              <a:t>НЕУРОБИОЛОГ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1619280" y="3284640"/>
            <a:ext cx="6019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SzPct val="90000"/>
              <a:buFont typeface="Wingdings" charset="2"/>
              <a:buChar char="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Поремећај неуротрансмис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SzPct val="90000"/>
              <a:buFont typeface="Wingdings" charset="2"/>
              <a:buChar char="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Неурои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можданих структура и протока кр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SzPct val="90000"/>
              <a:buFont typeface="Wingdings" charset="2"/>
              <a:buChar char="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Поремећај неуролошких функ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SzPct val="90000"/>
              <a:buFont typeface="Wingdings" charset="2"/>
              <a:buChar char="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Поремећај неуроендокриних функц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000000"/>
                </a:solidFill>
                <a:latin typeface="Calibri"/>
              </a:rPr>
              <a:t>ПОРЕМЕЋАЈ НЕУРОТРАНСМИСИЈ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143000" y="836640"/>
            <a:ext cx="7772400" cy="99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Моноаминска хипоте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Депресија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 резултат дефицита норадреналина и серотонина у одређеним синапсама у мозгу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Scan0122"/>
          <p:cNvPicPr/>
          <p:nvPr/>
        </p:nvPicPr>
        <p:blipFill>
          <a:blip r:embed="rId1"/>
          <a:stretch/>
        </p:blipFill>
        <p:spPr>
          <a:xfrm>
            <a:off x="1042920" y="1916280"/>
            <a:ext cx="7315200" cy="31622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1143000" y="51814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Ову хипотезу потврђује класичним радом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Јулијуса Aксeлрода (добио Нобелову награду)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показао да антидепресиви (нпр. имипрамин) повећавају концентрацију норадреналина у синапсамa инхибицијом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еузима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2680" y="479160"/>
            <a:ext cx="7764480" cy="5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НЕУРОФИЗИОЛОШКИ ПОРЕМЕЋАЈ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50560" y="1218960"/>
            <a:ext cx="4701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Calibri"/>
              </a:rPr>
              <a:t>EEG запис пацијената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са депресијом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см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е спороталасног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пав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, скраћ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е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Calibri"/>
              </a:rPr>
              <a:t>REM латенце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продуб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е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REM-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Поремећаји спав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упоредо са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субјективним дожив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ајима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депресивних пацијенат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028" descr="melancholy2"/>
          <p:cNvPicPr/>
          <p:nvPr/>
        </p:nvPicPr>
        <p:blipFill>
          <a:blip r:embed="rId1"/>
          <a:stretch/>
        </p:blipFill>
        <p:spPr>
          <a:xfrm>
            <a:off x="5148360" y="1219320"/>
            <a:ext cx="36907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700" spc="-1" strike="noStrike">
                <a:solidFill>
                  <a:srgbClr val="000000"/>
                </a:solidFill>
                <a:latin typeface="Calibri"/>
              </a:rPr>
              <a:t>ПОРЕМЕЋАЈИ НЕУРОЕНДОКРИНИХ ФУНКЦИЈ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50560" y="2060280"/>
            <a:ext cx="8637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Новија истражив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њ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рборелиус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1999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ериант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иллер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2001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у депресиј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с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кортикотропних рилизинг хормон (CRH)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повећано лучи из хипоталамус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директно утиче на HPA-осу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ипоталам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итуитар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дренокортикал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оса)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виши  нивои кортизола у крви и у урин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30-70% пацијената са великом депресијом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казу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показује супресију кортизола после датог дексаметазона (DST-тест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1003320"/>
            <a:ext cx="77724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000000"/>
                </a:solidFill>
                <a:latin typeface="Calibri"/>
              </a:rPr>
              <a:t>ПСИХОЛОШКЕ ТЕОРИЈ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78920" y="1484280"/>
            <a:ext cx="8713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Психоаналитичари (Freud, Abraham и др.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депресивни пацијен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су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остали фиксирани за оралну фазу психосексуалног развоја, када се амбивалентни однос према објекту остварује инкорпорациј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Бихејвиори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депресивни симптом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реакција на губитак поткреп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љ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недепресивног понаш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Когнитивисти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(Beck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код депресивних поремећаја примара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ј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поремећај миш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љ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, док су афективни и други психопатолошки поремећаји секундарни и резултат су поремећене мисаон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хем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гзистенцијал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ти: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депресивни пацијенти су озб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љ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но затајили негде на путу индивидуалног сазрев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и ово зат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љ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ив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е плаћају пред собом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страхом и осећајем кривице, односно депреси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11430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1f497d"/>
                </a:solidFill>
                <a:latin typeface="Times New Roman"/>
              </a:rPr>
              <a:t>ЕТИОПАТОГЕНЕ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9903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СОЦИОКУЛТУРНИ И ПСИХОСОЦИЈАЛН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ЧИНИОЦ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23640" y="1844280"/>
            <a:ext cx="5105160" cy="35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тепен повезаности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психосоцијалних фактора са појавом депресивних поремећа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Испитива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стресогени ефекат рата, елементарне катастрофе, акултурациони стрес 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ихов значај за настанак депресиј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ак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љ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учак: поменути фактори имају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декланширајући ефекат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у настај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у депресивних поремећај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2193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1f497d"/>
                </a:solidFill>
                <a:latin typeface="Times New Roman"/>
              </a:rPr>
              <a:t>ЕТИОПАТОГЕНЕ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d2"/>
          <p:cNvPicPr/>
          <p:nvPr/>
        </p:nvPicPr>
        <p:blipFill>
          <a:blip r:embed="rId1"/>
          <a:stretch/>
        </p:blipFill>
        <p:spPr>
          <a:xfrm>
            <a:off x="5943600" y="1765440"/>
            <a:ext cx="2349360" cy="34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1800" y="-360"/>
            <a:ext cx="7007400" cy="14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КЛИНИЧКЕ КАРАКТЕРИСТИКЕ ДЕПРЕС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24000" y="3141720"/>
            <a:ext cx="8820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Чак 97% пацијената жали се на сма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њење енергије и замо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80% пацијената - поремећај сна, посебно на рано јутар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ње буђењ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90% пацијената - симптоми анксиозности ук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ључујући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нападе панике, алкохолни абузус, соматске жалб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50% пацијената описује днвене варијације симпто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60% пацијената - когнитивна оштеће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ња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: поремећај концентрације, заборавност (“депресивна псеудодеменција”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увеличавају лоше и минимизирају добро расположење- чи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њеница је о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ој клиничар мора да води рачу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Copy of depression3"/>
          <p:cNvPicPr/>
          <p:nvPr/>
        </p:nvPicPr>
        <p:blipFill>
          <a:blip r:embed="rId1"/>
          <a:stretch/>
        </p:blipFill>
        <p:spPr>
          <a:xfrm>
            <a:off x="7010280" y="838080"/>
            <a:ext cx="1949400" cy="24386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324000" y="1197000"/>
            <a:ext cx="6762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Депресивно располож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, које је отпорно на утицаје из околине и губитак интереса или задово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ства у свим или готово свим активностима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су најважнији симптоми депрес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2/3  пацијената са епизодом велике депресије размиш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а о суициду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, 10-15% и покуша суици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осебни облици депрес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епресија са симптомима меланхол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езонска депрес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аскирана депрес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истим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ДИСТИМ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Сличан концепт раније је био познат под називима “мала-минор депресија”, субдепресија, неуротична депреси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Хронично депресивно располож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е које може да траје месецима са периодима од неколико дана или нед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а без симпто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Типична је флуктуација располож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а али у већини времена пацијенти се жале на умор, лоше располож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безв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нос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Клиничка слика дистимије добрим делом је идентична клинчкој слици у рекурентном депресивном поремећају и депресивној епизоди биполарног поремећаја, само што су симптоми м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е уоч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иви и блажи, а ток је хронича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924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ТОК И ПРОГНОЗ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1371600"/>
            <a:ext cx="5867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Нелечена епизода велике депресије траје 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6-12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месеци, а већина лечених епизода су просечног трај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а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око 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есец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Како поремећај прогредира пацијенти имају тенденцију за чешћим епизодама које дуже трај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Током 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двадесетогодиш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ег 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периода пацијенти просечно имају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5-6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епизода болест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5-10% пацијената са иницијалном дијагнозом униполарне депресије има маничну епизоду 6-10 година после прве депресивне епизод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ако се број епизода повећава, време између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их се скраћује, 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а тежина сваке епизоде је већ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melancholy3"/>
          <p:cNvPicPr/>
          <p:nvPr/>
        </p:nvPicPr>
        <p:blipFill>
          <a:blip r:embed="rId1"/>
          <a:stretch/>
        </p:blipFill>
        <p:spPr>
          <a:xfrm>
            <a:off x="5862600" y="1523880"/>
            <a:ext cx="320508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оремећаји расположе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Група психијатриских поремећај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моције, нарочито расположе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е -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централни психопатолошки феноме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Остали симптоми се групишу око овог основног поремећа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Пређашњи назив: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афективни поремећај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399600"/>
            <a:ext cx="851040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ТЕРАП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78920" y="1371600"/>
            <a:ext cx="56120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обро психофармаколошко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 вође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ње је од фундаменталног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значаја за терапију депресивних  поремећај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з фармакотерапију целовит приступ у лече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њу пацијената са депресијом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подразумева и психотерапиј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 новије време најчешће се приме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њује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бихејвиор и когнитивна психотерапиј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5" descr="depression3"/>
          <p:cNvPicPr/>
          <p:nvPr/>
        </p:nvPicPr>
        <p:blipFill>
          <a:blip r:embed="rId1"/>
          <a:stretch/>
        </p:blipFill>
        <p:spPr>
          <a:xfrm>
            <a:off x="5867280" y="1371600"/>
            <a:ext cx="2971800" cy="25938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6"/>
          <p:cNvSpPr/>
          <p:nvPr/>
        </p:nvSpPr>
        <p:spPr>
          <a:xfrm>
            <a:off x="179280" y="4292640"/>
            <a:ext cx="8780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Шездестих година прошлог века антидепресиви  улазе у клиничку примену, а до данас је синтетизован  велики број фармаколошких активних супстанци које имају антидепресивно деј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70% пацијената са депресију реагује пово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но на терапију антидепресив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9720" y="685440"/>
            <a:ext cx="7572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АНТИДЕПРЕСИВ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3" descr="naslov"/>
          <p:cNvPicPr/>
          <p:nvPr/>
        </p:nvPicPr>
        <p:blipFill>
          <a:blip r:embed="rId1"/>
          <a:stretch/>
        </p:blipFill>
        <p:spPr>
          <a:xfrm>
            <a:off x="1000080" y="1571760"/>
            <a:ext cx="7558200" cy="642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Copy of T1"/>
          <p:cNvPicPr/>
          <p:nvPr/>
        </p:nvPicPr>
        <p:blipFill>
          <a:blip r:embed="rId2"/>
          <a:stretch/>
        </p:blipFill>
        <p:spPr>
          <a:xfrm>
            <a:off x="1000080" y="2286000"/>
            <a:ext cx="7558200" cy="340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57160" y="681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АНТИДЕПРЕСИВ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naslov"/>
          <p:cNvPicPr/>
          <p:nvPr/>
        </p:nvPicPr>
        <p:blipFill>
          <a:blip r:embed="rId1"/>
          <a:stretch/>
        </p:blipFill>
        <p:spPr>
          <a:xfrm>
            <a:off x="1071720" y="1671480"/>
            <a:ext cx="7557840" cy="642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T2"/>
          <p:cNvPicPr/>
          <p:nvPr/>
        </p:nvPicPr>
        <p:blipFill>
          <a:blip r:embed="rId2"/>
          <a:stretch/>
        </p:blipFill>
        <p:spPr>
          <a:xfrm>
            <a:off x="1071720" y="2357280"/>
            <a:ext cx="7557840" cy="358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714240" y="681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АНТИДЕПРЕСИ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naslov"/>
          <p:cNvPicPr/>
          <p:nvPr/>
        </p:nvPicPr>
        <p:blipFill>
          <a:blip r:embed="rId1"/>
          <a:stretch/>
        </p:blipFill>
        <p:spPr>
          <a:xfrm>
            <a:off x="928800" y="1671480"/>
            <a:ext cx="7557840" cy="642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T3"/>
          <p:cNvPicPr/>
          <p:nvPr/>
        </p:nvPicPr>
        <p:blipFill>
          <a:blip r:embed="rId2"/>
          <a:stretch/>
        </p:blipFill>
        <p:spPr>
          <a:xfrm>
            <a:off x="928800" y="2357280"/>
            <a:ext cx="7557840" cy="279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85520" y="1357200"/>
            <a:ext cx="81738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000000"/>
                </a:solidFill>
                <a:latin typeface="Calibri"/>
              </a:rPr>
              <a:t>Биполарни</a:t>
            </a:r>
            <a:r>
              <a:rPr b="0" lang="sr-Latn-C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800" spc="-1" strike="noStrike">
                <a:solidFill>
                  <a:srgbClr val="000000"/>
                </a:solidFill>
                <a:latin typeface="Calibri"/>
              </a:rPr>
              <a:t>поремећај</a:t>
            </a:r>
            <a:r>
              <a:rPr b="0" lang="sr-Latn-C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800" spc="-1" strike="noStrike">
                <a:solidFill>
                  <a:srgbClr val="000000"/>
                </a:solidFill>
                <a:latin typeface="Calibri"/>
              </a:rPr>
              <a:t>расположењ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F 31 </a:t>
            </a:r>
            <a:r>
              <a:rPr b="1" i="1" lang="sr-Latn-CS" sz="2800" spc="-1" strike="noStrike">
                <a:solidFill>
                  <a:srgbClr val="000000"/>
                </a:solidFill>
                <a:latin typeface="Calibri"/>
              </a:rPr>
              <a:t>PSYCHOSIS AFFECTIVA,</a:t>
            </a:r>
            <a:br>
              <a:rPr sz="2800"/>
            </a:br>
            <a:r>
              <a:rPr b="1" i="1" lang="sr-Latn-CS" sz="2800" spc="-1" strike="noStrike">
                <a:solidFill>
                  <a:srgbClr val="000000"/>
                </a:solidFill>
                <a:latin typeface="Calibri"/>
              </a:rPr>
              <a:t> TYPUS BIPOLAR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500040" y="1357200"/>
            <a:ext cx="8136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1.0 Psychosis affectiva bipolaris, episodum hypomanic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31.1 Psychosis affectiva bipolaris, episodum manicum non psychotic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31.2 Psychosis affectiva bipolaris, episodum manicum psychotic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31.3 Psychosis affectiva bipolaris, episodum deprresivum, gradus levi sive moder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31.4 Psychosis affectiva bipolaris, episodum deprresivum, non psychoticum, gradus majo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31. 5 Psychosis affectiva bipolaris, episodum deprresivum, psychoticum, gradus majo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31.6 Psychosis affectiva bipolaris, episodum mix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755640" y="1989000"/>
            <a:ext cx="748836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м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ју се маничне и депресивне фаз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алтерни тип, циркуларни тип, double forme тип, интермитентна манија, интермитентна депресија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оминира оштећ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 емо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из којег проистичу оштећ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 осталих психичких функци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б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 је ендоге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след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фактор је веома наглаш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9600"/>
            <a:ext cx="7889760" cy="1060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hr-HR" sz="2900" spc="-1" strike="noStrike">
                <a:solidFill>
                  <a:srgbClr val="000000"/>
                </a:solidFill>
                <a:latin typeface="Calibri"/>
              </a:rPr>
              <a:t>Биполарни поремећај расположе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1" lang="en-GB" sz="29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826920" y="1628640"/>
            <a:ext cx="79218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Генетика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д 60-80% болесника постоји хердитарна предиспозиц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Преморбидна структура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циклотимна структура личности, екстровертност, социјалабилн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Конституција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- пикничка конституц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Биохемијске теорије настанка биполарног поремећаја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улога норадреналина, серототина, допамин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Најновија сазна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њ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 улога митохондрија, 30% неурона са појачаним сл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ем сигнал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ромозом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, 6, 8, 12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22.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0" lang="hr-HR" sz="2500" spc="-1" strike="noStrike">
                <a:solidFill>
                  <a:srgbClr val="eaeaea"/>
                </a:solidFill>
                <a:latin typeface="Calibri"/>
              </a:rPr>
              <a:t> </a:t>
            </a: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Биполарни поремећај расположе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1" lang="en-GB" sz="25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br>
              <a:rPr sz="2500"/>
            </a:b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ЕТИОПАТОГЕНЕЗ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826920" y="1844640"/>
            <a:ext cx="7848720" cy="46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ЕМОЦИЈЕ: повиш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е располож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(хипертимиј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), еуфорија, преко одуше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и егзалтације до степена екстазе, м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гућа је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 трансформација ка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у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 и бесу.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МИШ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: поремећај по форми и по садржају, убрзани мисаони ток, бујице идеја, “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fuga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idearum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”, разликује се од шизофреног, поремећај по садржају није правило, благе експанзивне сумануте идеј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ПАЖ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: појачана вигилност,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ослаб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ен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тенаците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hr-HR" sz="2500" spc="-1" strike="noStrike">
                <a:solidFill>
                  <a:srgbClr val="eaeaea"/>
                </a:solidFill>
                <a:latin typeface="Calibri"/>
              </a:rPr>
              <a:t> </a:t>
            </a: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Биполарни поремећаји расположе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1" lang="en-GB" sz="25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br>
              <a:rPr sz="2500"/>
            </a:b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КЛИНИЧКА СЛИКА</a:t>
            </a:r>
            <a:br>
              <a:rPr sz="2500"/>
            </a:b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МАНИ</a:t>
            </a: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Ј</a:t>
            </a: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3"/>
          <p:cNvSpPr/>
          <p:nvPr/>
        </p:nvSpPr>
        <p:spPr>
          <a:xfrm>
            <a:off x="826920" y="1557360"/>
            <a:ext cx="792180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НАГОНИ: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ве виталне функције су појачане и убрзане, појачан нагон за исхраном (услед претеране покр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вости обич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губе на тежи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, појачан сексуални нагон (непријатни и неукусни у својој сексуалности), бесумучно трош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е новца, коц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В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репуни планова и акција, ни једну од започетих ра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 не довршавају до кра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ПАЖ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ПАМЋ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ИНТЕЛИГЕНЦИЈА: халуцинације ретке, памћ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е и интелиген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нису оштеће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309600"/>
            <a:ext cx="7889760" cy="1060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Биполарни поремећај расположе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1" lang="en-GB" sz="25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br>
              <a:rPr sz="2500"/>
            </a:b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КЛИНИЧКА СЛИКА</a:t>
            </a:r>
            <a:br>
              <a:rPr sz="2500"/>
            </a:b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МАНИ</a:t>
            </a: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Ј</a:t>
            </a: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Поремећаји расположе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Класифик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Епизодични, јаки по интезитет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Рекурентни депресивни поремећаји (мајор депресиј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Биполарни поремећаји располож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Хронични, слаби по интезитет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Циклотим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Дистим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611280" y="1700280"/>
            <a:ext cx="792144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ВЕСТ: није оштећена сем у тешкој форми делирантне ман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РИТИЧНОСТ: знатно редукова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ВИД: у сопствено с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 је веома сниж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АН, ВЕГЕТАТИВНИ СИСТЕМ, РУКОПИ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Биполарни поремећај расположе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1" lang="en-GB" sz="25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br>
              <a:rPr sz="2500"/>
            </a:b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КЛИНИЧКА СЛИКА</a:t>
            </a:r>
            <a:br>
              <a:rPr sz="2500"/>
            </a:b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МАНИ</a:t>
            </a: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Ј</a:t>
            </a: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Биполарни поремећај расположе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1" lang="en-GB" sz="25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br>
              <a:rPr sz="2500"/>
            </a:b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КЛИНИЧКА СЛИКА</a:t>
            </a:r>
            <a:br>
              <a:rPr sz="2500"/>
            </a:b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МАНИ</a:t>
            </a: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Ј</a:t>
            </a: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Поред класичног облика постоје и друге форме мани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ХИПОМАН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МАНИЈА СА ПСИХОТИЧНИМ ЗНАЦИМА (сумануте идеде, халуцинације, салата од речи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АКИНЕТИЧНА МАНИЈА (без повишене активности) и НЕПРОДУКТИВНА МАНИЈА (без вербалне хиперпродуктивности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ДЕЛИРАНТНА МАН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900" spc="-1" strike="noStrike">
                <a:solidFill>
                  <a:srgbClr val="000000"/>
                </a:solidFill>
                <a:latin typeface="Calibri"/>
              </a:rPr>
              <a:t>Биполарни поремећај расположе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1" lang="en-GB" sz="29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br>
              <a:rPr sz="2900"/>
            </a:b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ДИЈАГНОЗА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50920" y="1268280"/>
            <a:ext cx="832788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Комплетна анамнеза и физикални налаз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чи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умо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мозга, повреде главе, сид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јабете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пилепси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упу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Лајмска болест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ултиплу склероз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неуросифилис, дисфункци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штитасте жлезд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Психијатријска анемнеза: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с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чит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DHD, злоупотреб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алкохо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А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анични поремећај личнос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суманути поремећај, деменци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поремећај исхране, панични поремећај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хизофрени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зоафективни поремећа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Породична анамн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Евалуција симпт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900" spc="-1" strike="noStrike">
                <a:solidFill>
                  <a:srgbClr val="000000"/>
                </a:solidFill>
                <a:latin typeface="Calibri"/>
              </a:rPr>
              <a:t>Биполарни поремећај расположе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1" lang="en-GB" sz="29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br>
              <a:rPr sz="2900"/>
            </a:b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ДИЈАГНОЗА</a:t>
            </a:r>
            <a:br>
              <a:rPr sz="2500"/>
            </a:b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500" spc="-1" strike="noStrike">
                <a:solidFill>
                  <a:srgbClr val="000000"/>
                </a:solidFill>
                <a:latin typeface="Calibri"/>
              </a:rPr>
              <a:t>ЕВАЛУЦИЈА СИМПТОМ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Манична фаз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Поремећаји спав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, нарочито ако има доста енергије, а мало спав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Стално траж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е да нешто раде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(пере кола сваки дан, брише прашину више пута дневно...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Прекомерно прича, а лако га прекине у говору периферни зву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Јача сексуална ж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љ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а него иначе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(вулгарне шале, на тел. рачуну hot line br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Појачано трош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е новц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Жали се да му мисли расту неконтролисан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Прави нереалне планове (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престаћу да радим и постаћу јелка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продајмо кућу и преселимо се у Мексико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Безразложна иритабилност 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/или хостилност.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Облач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е гардеробе јарких бој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Одбиј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е терапије, ако је до тада узима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4" descr="untitled"/>
          <p:cNvPicPr/>
          <p:nvPr/>
        </p:nvPicPr>
        <p:blipFill>
          <a:blip r:embed="rId1"/>
          <a:stretch/>
        </p:blipFill>
        <p:spPr>
          <a:xfrm>
            <a:off x="0" y="0"/>
            <a:ext cx="126684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ЦИКЛОТИМ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Овај поремећај се некада називао циклотимни поремећај личности и спадао је у поремећаје лич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Блага хронична хиперактивност  и еуфорија и блага хронична депресија и хиперактивност с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основна обележја овог поремећај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Квантитативно посматрано никада нема елемената за праву маничну или депресивну епизоду (симптоми су код дистимије блажи, а ток је хроничан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680" y="1499760"/>
            <a:ext cx="8316720" cy="30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Рекурентн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депресивн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ремећај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ајор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депресиј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melancholy"/>
          <p:cNvPicPr/>
          <p:nvPr/>
        </p:nvPicPr>
        <p:blipFill>
          <a:blip r:embed="rId1"/>
          <a:stretch/>
        </p:blipFill>
        <p:spPr>
          <a:xfrm>
            <a:off x="1143000" y="0"/>
            <a:ext cx="52340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6477120" y="228600"/>
            <a:ext cx="2438280" cy="51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</a:rPr>
              <a:t>епресиј</a:t>
            </a:r>
            <a:r>
              <a:rPr b="1" i="1" lang="sr-RS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интезивира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расположе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у правцу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</a:rPr>
              <a:t>туге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Промена је патолош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по свом интезитету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по свом траја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по свом квалитет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због околности  у којима се јав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br>
              <a:rPr sz="2000"/>
            </a:br>
            <a:br>
              <a:rPr sz="2000"/>
            </a:b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ИСТОРИЈСКИ ПРЕГЛЕ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1142640"/>
            <a:ext cx="5410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линич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описи депресивних ста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ња: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Хипократ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, глинене плочице Вавилона, Аретеус из Кападокиј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ве јасније перцепције депресивних поремећаја: Баиларгер и Фарлет средином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века у Француској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изда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њу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свог у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џбеника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психијатрије 1896 године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Емил Крепелин: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концепт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манично-депресивне психоз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овије класификације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SM-IV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CD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-10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нцепт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униполарних депрес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епресија из круга биполарних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 поремећај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14"/>
          <p:cNvPicPr/>
          <p:nvPr/>
        </p:nvPicPr>
        <p:blipFill>
          <a:blip r:embed="rId1"/>
          <a:stretch/>
        </p:blipFill>
        <p:spPr>
          <a:xfrm>
            <a:off x="5410080" y="1219320"/>
            <a:ext cx="362916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307800"/>
            <a:ext cx="8510400" cy="7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Кл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сификац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0560" y="1125000"/>
            <a:ext cx="881676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Главна основа за квантитативно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проучав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е сваке појав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Класира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стварати, дефинисати и потврдити границе концеп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Класификација депресије још од Емила Крепелина прате</a:t>
            </a: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 дихтомиј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: </a:t>
            </a:r>
            <a:br>
              <a:rPr sz="2000"/>
            </a:b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ендогено-реактивно; психотично-неуротично; примарно-секундарно; органско-психогено; униполарно-биполарно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Дихтомија,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ниполарно-биполарно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(Leonhard, 1957) нашла је пуно оправд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е у клиничкој пракси и постала основа свих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савремених класификационих система (DSM IV, ICD-10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Класификације DSM IV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ICD-1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димензиони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модел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ритеријум класификов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четири димензије феноменологије:</a:t>
            </a:r>
            <a:br>
              <a:rPr sz="2000"/>
            </a:b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интезитет, периодицитет, поларитет и трај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е поремећај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Scan0002"/>
          <p:cNvPicPr/>
          <p:nvPr/>
        </p:nvPicPr>
        <p:blipFill>
          <a:blip r:embed="rId1"/>
          <a:stretch/>
        </p:blipFill>
        <p:spPr>
          <a:xfrm>
            <a:off x="0" y="914400"/>
            <a:ext cx="4549680" cy="59436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928800" y="0"/>
            <a:ext cx="50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ДИЈАГНОСТИЧКИ КРИТЕРИЈУМИ 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ЗА ЕПИЗОДУ ВЕЛИКЕ ДЕПРЕСИ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4716360" y="1000080"/>
            <a:ext cx="42134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авремени класификациони - униформна и прецизнија дијагнос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слов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за клинички и научно-истаживачки р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енциј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ка дескриптивној класификацији депресије, тзв. синдромолошки присту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-2430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ЕПИДЕМИОЛОГ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-360" y="1699920"/>
            <a:ext cx="56070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честалост великог депресивног поремећаја (DSM IV критеријуми) у САД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од 3-5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изик да ће исп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љ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ити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бар jедну епизоду велике депресије током свог живо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4-12% мушкараца i 20-26% же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пидемиолош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истражив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њ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од униполарних депресија </a:t>
            </a: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жене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у односу на мушкарце об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љ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евају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два пута чешћ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топе инциденције и превенциј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знатно веће код особа старијег животног доб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melancholy6"/>
          <p:cNvPicPr/>
          <p:nvPr/>
        </p:nvPicPr>
        <p:blipFill>
          <a:blip r:embed="rId1"/>
          <a:stretch/>
        </p:blipFill>
        <p:spPr>
          <a:xfrm>
            <a:off x="5638680" y="1676520"/>
            <a:ext cx="3291120" cy="4647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19:02:36Z</dcterms:created>
  <dc:creator>Mine</dc:creator>
  <dc:description/>
  <dc:language>en-US</dc:language>
  <cp:lastModifiedBy>Prof.Mihajlović</cp:lastModifiedBy>
  <dcterms:modified xsi:type="dcterms:W3CDTF">2018-09-09T17:36:20Z</dcterms:modified>
  <cp:revision>59</cp:revision>
  <dc:subject/>
  <dc:title>REKURENTNI DEPRESIVNI POREMEĆAJ</dc:title>
</cp:coreProperties>
</file>